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15CF8-00BE-4A64-B0F7-E949A1726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C9012-2200-488C-906F-43999925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B454B-6CEC-48F6-B4DF-69459CB56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176DA-D21B-4983-B776-A421F49A4B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3E37-50CC-455D-A738-E2F4B02E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D3E69-DD98-4AC4-A765-B00AD31E5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C358-BF96-41C8-928B-B559FC952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03530-357F-42E2-AEFD-6E811021F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6331-4FB6-43C0-9726-FE919C134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97EA-4D52-46D5-8A6D-5ED0FC9C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0FC5D-8FF6-4A23-9192-53E65B915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03D8A-57DF-4378-A0DE-EDCA2D25CB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0C8A-B6F1-4069-AE8A-E0D1047BA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472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298F-799E-4213-B9A3-D66C7FB9C7A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1"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358920" y="1413000"/>
            <a:ext cx="8496000" cy="5040360"/>
          </a:xfrm>
          <a:prstGeom prst="rect">
            <a:avLst/>
          </a:prstGeom>
          <a:noFill/>
          <a:ln w="0">
            <a:noFill/>
          </a:ln>
        </p:spPr>
        <p:style>
          <a:lnRef idx="0"/>
          <a:fillRef idx="0"/>
          <a:effectRef idx="0"/>
          <a:fontRef idx="minor"/>
        </p:style>
        <p:txBody>
          <a:bodyPr lIns="0" rIns="0" tIns="0" bIns="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55640" y="2242080"/>
            <a:ext cx="79930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Если дейтаграмма предназначена этому же узлу, из нее извлекаются данные и направляются на обработку одному из протоколов транспортного уровня (какому именно - указывается в заголовке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E766-462B-4C92-AC51-77D427D6BCD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5"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6" name=""/>
          <p:cNvSpPr/>
          <p:nvPr/>
        </p:nvSpPr>
        <p:spPr>
          <a:xfrm>
            <a:off x="539640" y="630000"/>
            <a:ext cx="8101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дейтаграмма не направлена ни на один из IP-адресов данного узл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при необходимости может быть произведена фрагментация дейтаграмм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794E-F243-4196-9575-5393B155D7C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9"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0" name=""/>
          <p:cNvSpPr/>
          <p:nvPr/>
        </p:nvSpPr>
        <p:spPr>
          <a:xfrm>
            <a:off x="611280" y="1452960"/>
            <a:ext cx="799308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лом сети</a:t>
            </a:r>
            <a:r>
              <a:rPr b="0" lang="en-US" sz="3200" spc="-1" strike="noStrike">
                <a:solidFill>
                  <a:srgbClr val="3366ff"/>
                </a:solidFill>
                <a:latin typeface="Tahoma"/>
              </a:rPr>
              <a:t> называется компьютер, подключенный к сети и поддерживающий протокол I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Узел сети</a:t>
            </a:r>
            <a:r>
              <a:rPr b="0" lang="en-US" sz="3200" spc="-1" strike="noStrike">
                <a:solidFill>
                  <a:srgbClr val="3366ff"/>
                </a:solidFill>
                <a:latin typeface="Tahoma"/>
              </a:rPr>
              <a:t> может иметь один и более IP-интерфейсов, подключенных к одной или разным сетям, каждый такой интерфейс идентифицируется уникальным IP-адресом.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9D76-682B-458E-8051-6A555461F00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2"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611280" y="572760"/>
            <a:ext cx="8137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ью</a:t>
            </a:r>
            <a:r>
              <a:rPr b="0" lang="en-US" sz="2800" spc="-1" strike="noStrike">
                <a:solidFill>
                  <a:srgbClr val="3366ff"/>
                </a:solidFill>
                <a:latin typeface="Tahoma"/>
              </a:rPr>
              <a:t> называется множество компьютеров (IP-интерфейсов), часто, но не всегда подсоединенных к одному физическому каналу связи, способных пересылать IP-дейтаграммы друг другу непосредственно (то есть без ретрансляции через промежуточные компьютеры), при этом IP-адреса интерфейсов одной IP-сети имеют общую часть, которая называется адресом, или номером, IP-сети, и специфическую для каждого интерфейса часть, называемую адресом, или номером, данного интерфейса в данной IP-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75"/>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72"/>
                                        </p:tgtEl>
                                        <p:attrNameLst>
                                          <p:attrName>style.visibility</p:attrName>
                                        </p:attrNameLst>
                                      </p:cBhvr>
                                      <p:to>
                                        <p:strVal val="visible"/>
                                      </p:to>
                                    </p:set>
                                    <p:animEffect filter="fade" transition="in">
                                      <p:cBhvr additive="repl">
                                        <p:cTn id="10" dur="2000"/>
                                        <p:tgtEl>
                                          <p:spTgt spid="72"/>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73"/>
                                        </p:tgtEl>
                                        <p:attrNameLst>
                                          <p:attrName>style.visibility</p:attrName>
                                        </p:attrNameLst>
                                      </p:cBhvr>
                                      <p:to>
                                        <p:strVal val="visible"/>
                                      </p:to>
                                    </p:set>
                                    <p:animEffect filter="wipe(down)" transition="in">
                                      <p:cBhvr additive="repl">
                                        <p:cTn id="14" dur="1000"/>
                                        <p:tgtEl>
                                          <p:spTgt spid="73"/>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74"/>
                                        </p:tgtEl>
                                        <p:attrNameLst>
                                          <p:attrName>style.visibility</p:attrName>
                                        </p:attrNameLst>
                                      </p:cBhvr>
                                      <p:to>
                                        <p:strVal val="visible"/>
                                      </p:to>
                                    </p:set>
                                    <p:anim calcmode="lin" valueType="num">
                                      <p:cBhvr additive="repl">
                                        <p:cTn id="18" dur="1000" fill="hold"/>
                                        <p:tgtEl>
                                          <p:spTgt spid="74"/>
                                        </p:tgtEl>
                                        <p:attrNameLst>
                                          <p:attrName>ppt_w</p:attrName>
                                        </p:attrNameLst>
                                      </p:cBhvr>
                                      <p:tavLst>
                                        <p:tav tm="0">
                                          <p:val>
                                            <p:fltVal val="0"/>
                                          </p:val>
                                        </p:tav>
                                        <p:tav tm="100000">
                                          <p:val>
                                            <p:strVal val="#ppt_w"/>
                                          </p:val>
                                        </p:tav>
                                      </p:tavLst>
                                    </p:anim>
                                    <p:anim calcmode="lin" valueType="num">
                                      <p:cBhvr additive="repl">
                                        <p:cTn id="19" dur="1000" fill="hold"/>
                                        <p:tgtEl>
                                          <p:spTgt spid="74"/>
                                        </p:tgtEl>
                                        <p:attrNameLst>
                                          <p:attrName>ppt_h</p:attrName>
                                        </p:attrNameLst>
                                      </p:cBhvr>
                                      <p:tavLst>
                                        <p:tav tm="0">
                                          <p:val>
                                            <p:fltVal val="0"/>
                                          </p:val>
                                        </p:tav>
                                        <p:tav tm="100000">
                                          <p:val>
                                            <p:strVal val="#ppt_h"/>
                                          </p:val>
                                        </p:tav>
                                      </p:tavLst>
                                    </p:anim>
                                    <p:animEffect filter="fade" transition="in">
                                      <p:cBhvr additive="repl">
                                        <p:cTn id="20"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9"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0" name=""/>
          <p:cNvSpPr/>
          <p:nvPr/>
        </p:nvSpPr>
        <p:spPr>
          <a:xfrm>
            <a:off x="684360" y="1090440"/>
            <a:ext cx="7920000" cy="4480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Маршрутизатором, или шлюзом,</a:t>
            </a:r>
            <a:r>
              <a:rPr b="0" lang="en-US" sz="3200" spc="-1" strike="noStrike">
                <a:solidFill>
                  <a:srgbClr val="3366ff"/>
                </a:solidFill>
                <a:latin typeface="Tahoma"/>
              </a:rPr>
              <a:t> называется узел сети с несколькими IP-интерфейсами, подключенными к разным IP-сетям, осуществляющий на основе решения задачи маршрутизации перенаправление дейтаграмм из одной сети в другую для доставки от отправителя к получател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A6A4-6F36-49E6-958F-C2C108FCFFE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82" name=""/>
          <p:cNvGraphicFramePr/>
          <p:nvPr/>
        </p:nvGraphicFramePr>
        <p:xfrm>
          <a:off x="503280" y="1844640"/>
          <a:ext cx="8209080" cy="2844720"/>
        </p:xfrm>
        <a:graphic>
          <a:graphicData uri="http://schemas.openxmlformats.org/drawingml/2006/table">
            <a:tbl>
              <a:tblPr/>
              <a:tblGrid>
                <a:gridCol w="8209080"/>
              </a:tblGrid>
              <a:tr h="2844720">
                <a:tc>
                  <a:txBody>
                    <a:bodyPr lIns="72000" rIns="0" tIns="36000" bIns="360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Хостами</a:t>
                      </a:r>
                      <a:r>
                        <a:rPr b="0" lang="ru-RU" sz="2800" spc="-1" strike="noStrike">
                          <a:solidFill>
                            <a:srgbClr val="3366ff"/>
                          </a:solidFill>
                          <a:latin typeface="Tahoma"/>
                        </a:rPr>
                        <a:t> называются узлы IP-сети, не являющиеся маршрутизаторами. Обычно хост имеет один IP-интерфейс (например, связанный с сетевой картой Ethernet или с модемом), хотя может иметь и несколько. </a:t>
                      </a:r>
                      <a:endParaRPr b="0" lang="en-US" sz="2800" spc="-1" strike="noStrike">
                        <a:solidFill>
                          <a:srgbClr val="000000"/>
                        </a:solidFill>
                        <a:latin typeface="Arial"/>
                      </a:endParaRPr>
                    </a:p>
                  </a:txBody>
                  <a:tcPr anchor="t" marL="72000">
                    <a:lnL>
                      <a:noFill/>
                    </a:lnL>
                    <a:lnR>
                      <a:noFill/>
                    </a:lnR>
                    <a:lnT>
                      <a:noFill/>
                    </a:lnT>
                    <a:lnB>
                      <a:noFill/>
                    </a:lnB>
                    <a:noFill/>
                  </a:tcPr>
                </a:tc>
              </a:tr>
            </a:tbl>
          </a:graphicData>
        </a:graphic>
      </p:graphicFrame>
      <p:sp>
        <p:nvSpPr>
          <p:cNvPr id="83" name=""/>
          <p:cNvSpPr/>
          <p:nvPr/>
        </p:nvSpPr>
        <p:spPr>
          <a:xfrm>
            <a:off x="287280" y="123336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F7B11-4959-446D-A143-B88078457FF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6" name=""/>
          <p:cNvSpPr/>
          <p:nvPr/>
        </p:nvSpPr>
        <p:spPr>
          <a:xfrm>
            <a:off x="647640" y="1945080"/>
            <a:ext cx="7993080" cy="3506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торы представляют собой либо специализированные вычислительные машины, либо компьютеры с несколькими IP-интерфейсами, работа которых управляется специальным программным обеспечение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B27C4-3CF3-43E1-8718-8427D4767A9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8" name=""/>
          <p:cNvSpPr/>
          <p:nvPr/>
        </p:nvSpPr>
        <p:spPr>
          <a:xfrm>
            <a:off x="503280" y="2023920"/>
            <a:ext cx="8280360" cy="306072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Неотъемлемой частью IP-модуля является протокол ICMP (Internet Control Message Protocol), отправляющий диагностические сообщения при невозможности доставки дейтаграммы </a:t>
            </a:r>
            <a:endParaRPr b="0" lang="en-US" sz="2800" spc="-1" strike="noStrike">
              <a:solidFill>
                <a:srgbClr val="000000"/>
              </a:solidFill>
              <a:latin typeface="Arial"/>
            </a:endParaRPr>
          </a:p>
        </p:txBody>
      </p:sp>
      <p:sp>
        <p:nvSpPr>
          <p:cNvPr id="8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A2D5-FF53-46DD-940D-C2345232F86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2" name=""/>
          <p:cNvSpPr/>
          <p:nvPr/>
        </p:nvSpPr>
        <p:spPr>
          <a:xfrm>
            <a:off x="611280" y="878400"/>
            <a:ext cx="7920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2</a:t>
            </a:r>
            <a:r>
              <a:rPr b="1" lang="ru-RU" sz="3200" spc="-1" strike="noStrike">
                <a:solidFill>
                  <a:srgbClr val="3366ff"/>
                </a:solidFill>
                <a:latin typeface="Tahoma"/>
              </a:rPr>
              <a:t>. IP-адреса.</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IP-адрес является уникальным 32-битным идентификатором IP-интерфейса в Интернет. Часто говорят, что IP-адрес присваивается узлу сети (например, хосту); это верно в случае, если узел является хостом с одним IP-интерфейсом, иначе следует уточнить, об адресе какого именно интерфейса данного узла идет реч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56AA-AED1-48C9-9704-D8911D684B4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719280" y="1432080"/>
            <a:ext cx="7848360" cy="4116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адреса принято записывать разбивкой всего адреса по октетам, каждый октет записывается в виде десятичного числа, числа разделяются точками. Например, адре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10100000010100010000010110000011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писывается как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10100000.01010001.00000101.10000011 = 160.81.5.13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ff"/>
                </a:solidFill>
                <a:latin typeface="Tahoma"/>
              </a:rPr>
              <a:t>Тема 2</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66ff"/>
                </a:solidFill>
                <a:latin typeface="Tahoma"/>
              </a:rPr>
              <a:t>Протокол </a:t>
            </a:r>
            <a:r>
              <a:rPr b="1" lang="en-US" sz="3600" spc="-1" strike="noStrike">
                <a:solidFill>
                  <a:srgbClr val="3366ff"/>
                </a:solidFill>
                <a:latin typeface="Tahoma"/>
              </a:rPr>
              <a:t>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9094-DBB8-4A93-BDCA-53EDD38DE25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9" name=""/>
          <p:cNvSpPr/>
          <p:nvPr/>
        </p:nvSpPr>
        <p:spPr>
          <a:xfrm>
            <a:off x="611280" y="2271240"/>
            <a:ext cx="8137440" cy="2531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IP-адрес хоста состоит из номера IP-сети, который занимает старшую область адреса, и номера хоста в этой сети, который занимает младшую част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9CB9-352D-452B-A779-9534C32EDCA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468360" y="799200"/>
            <a:ext cx="8136000" cy="5274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Классовая модель</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 классовой модели IP-адрес может принадлежать к одному из четырех классов сетей. Каждый класс характеризуется определенным размером сетевой части адреса, кратным восьми; таким образом, граница между сетевой и хостовой частями IP-адреса в классовой модели всегда проходит по границе октета. Принадлежность к тому или иному классу определяется по старшим битам адреса.</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03D2-9318-4A35-9435-FDCDF80C39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539640" y="134136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А.</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Старший бит адреса равен нулю. Размер сетевой части равен 8 битам. Таким образом, может существовать всего примерно 27 сетей класса А, но каждая сеть обладает адресным пространством на 224 хостов. Так как старший бит адреса нулевой, то все IP-адреса этого класса имеют значение старшего октета в диапазоне 0 — 127, который является также и номером се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5388-371E-4CBF-A5A3-0D40D40861E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9" name=""/>
          <p:cNvSpPr/>
          <p:nvPr/>
        </p:nvSpPr>
        <p:spPr>
          <a:xfrm>
            <a:off x="755640" y="1037160"/>
            <a:ext cx="7812000" cy="4786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В.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ва старших бита адреса равны 10. Размер сетевой части равен 16 битам. Таким образом, может существовать всего примерно 214 сетей класса В, каждая сеть обладает адресным пространством на 216 хостов. Значения старшего октета IP-адреса лежат в диапазоне 128 — 191, при этом номером сети являются два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87A3-BA90-4BF3-921D-08B95B7AE8C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539640" y="1675800"/>
            <a:ext cx="820908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Tahoma"/>
              </a:rPr>
              <a:t>Класс С.</a:t>
            </a:r>
            <a:r>
              <a:rPr b="0" lang="ru-RU" sz="2800" spc="-1" strike="noStrike">
                <a:solidFill>
                  <a:srgbClr val="3366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Три старших бита адреса равны 110. Размер сетевой части равен 24 битам. Количество сетей класса С примерно 221, адресное пространство каждой сети рассчитано на 254 хоста. Значения старшего октета IP-адреса лежат в диапазоне 192 - 223, а номером сети являются три старших окте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E4E7A-3485-4035-801B-3CDCDCE80BC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6" name=""/>
          <p:cNvSpPr/>
          <p:nvPr/>
        </p:nvSpPr>
        <p:spPr>
          <a:xfrm>
            <a:off x="792000" y="1193400"/>
            <a:ext cx="799308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Класс 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3200" spc="-1" strike="noStrike">
                <a:solidFill>
                  <a:srgbClr val="3366ff"/>
                </a:solidFill>
                <a:latin typeface="Tahoma"/>
              </a:rPr>
              <a:t>Сети со значениями старшего октета IP-адреса 224 и выше. Зарезервированы для специальных целей. Некоторые адреса используются для мультикастинга - передачи дейтаграмм группе узлов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5A6A-3F29-4F24-B289-2485E0A36C3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684360" y="833040"/>
            <a:ext cx="810072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Бесклассовая модель (CID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Бесклассовой (CIDR - Classless Internet Direct Routing, прямая бесклассовая маршрутизация в Интернет) называется если в случае адресации вне классов, с произвольным положением границы сеть-хост внутри IP-адреса, к IP-адресу прилагается 32-битовая маска, которую называют маской сети (netmask) или маской подсети (subnet mas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F6A9-B3F9-47D7-AB69-2016C398720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68360" y="633600"/>
            <a:ext cx="828036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Сетевая маска конструируется по следующему правилу: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сети, биты установл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на позициях, соответствующих номеру хоста, биты сброшены.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В настоящее время классовая модель считается устаревшей и маршрутизация и (большей частью) выдача блоков IP-адресов осуществляются по модели CIDR, хотя классы сетей еще прочно удерживаются в терминолог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4" name=""/>
          <p:cNvSpPr/>
          <p:nvPr/>
        </p:nvSpPr>
        <p:spPr>
          <a:xfrm>
            <a:off x="611280" y="1338480"/>
            <a:ext cx="8064360" cy="4480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Маршрутизация.</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оцесс маршрутизации дейтаграмм состоит в определении следующего узла (next hop) в пути следования дейтаграммы и пересылки дейтаграммы этому узлу, который является либо узлом назначения, либо промежуточным маршрутизатор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11280" y="479520"/>
            <a:ext cx="8029440" cy="59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Маршрутизация выполняется на основе данных, содержащихся в таблице маршрутов.</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Tahoma"/>
              </a:rPr>
              <a:t>Строка в таблице маршрутов состоит из следующих полей: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ети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адрес следующего маршрутизатора (то есть узла, который знает, куда дальше отправить дейтаграмму, адресованную в сеть назначения);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вспомогательные по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10920" y="873000"/>
            <a:ext cx="7885080" cy="5112000"/>
          </a:xfrm>
          <a:prstGeom prst="rect">
            <a:avLst/>
          </a:prstGeom>
          <a:noFill/>
          <a:ln w="0">
            <a:noFill/>
          </a:ln>
        </p:spPr>
        <p:txBody>
          <a:bodyPr lIns="90000" rIns="90000" tIns="46800" bIns="46800" anchor="t">
            <a:normAutofit/>
          </a:bodyPr>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Содержание:</a:t>
            </a:r>
            <a:endParaRPr b="0" lang="en-US" sz="3200" spc="-1" strike="noStrike">
              <a:solidFill>
                <a:srgbClr val="000000"/>
              </a:solidFill>
              <a:latin typeface="Arial"/>
            </a:endParaRPr>
          </a:p>
          <a:p>
            <a:pPr marL="609480" indent="-609480">
              <a:lnSpc>
                <a:spcPct val="100000"/>
              </a:lnSpc>
              <a:spcBef>
                <a:spcPts val="799"/>
              </a:spcBef>
              <a:buClr>
                <a:srgbClr val="0066ff"/>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Функции протокола IP</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2) </a:t>
            </a:r>
            <a:r>
              <a:rPr b="0" lang="ru-RU" sz="3200" spc="-1" strike="noStrike">
                <a:solidFill>
                  <a:srgbClr val="3366ff"/>
                </a:solidFill>
                <a:latin typeface="Arial"/>
              </a:rPr>
              <a:t>IP-адреса.</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Маршрутизация</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Формат заголовка IP-дейтаграммы</a:t>
            </a:r>
            <a:endParaRPr b="0" lang="en-US" sz="3200" spc="-1" strike="noStrike">
              <a:solidFill>
                <a:srgbClr val="000000"/>
              </a:solidFill>
              <a:latin typeface="Arial"/>
            </a:endParaRPr>
          </a:p>
          <a:p>
            <a:pPr marL="609480" indent="-609480">
              <a:spcBef>
                <a:spcPts val="799"/>
              </a:spcBef>
              <a:buClr>
                <a:srgbClr val="3366ff"/>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Arial"/>
              </a:rPr>
              <a:t>Протокол ICMP</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26" name="" descr="Example of routing"/>
          <p:cNvPicPr/>
          <p:nvPr/>
        </p:nvPicPr>
        <p:blipFill>
          <a:blip r:embed="rId1"/>
          <a:stretch/>
        </p:blipFill>
        <p:spPr>
          <a:xfrm>
            <a:off x="1116000" y="2600280"/>
            <a:ext cx="7345440" cy="2772000"/>
          </a:xfrm>
          <a:prstGeom prst="rect">
            <a:avLst/>
          </a:prstGeom>
          <a:ln w="0">
            <a:noFill/>
          </a:ln>
        </p:spPr>
      </p:pic>
      <p:sp>
        <p:nvSpPr>
          <p:cNvPr id="127" name=""/>
          <p:cNvSpPr/>
          <p:nvPr/>
        </p:nvSpPr>
        <p:spPr>
          <a:xfrm>
            <a:off x="2108520" y="907200"/>
            <a:ext cx="4976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Пример маршрутизаци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8" name=""/>
          <p:cNvSpPr/>
          <p:nvPr/>
        </p:nvSpPr>
        <p:spPr>
          <a:xfrm>
            <a:off x="576360" y="1867680"/>
            <a:ext cx="8099280" cy="329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аблица маршрутов хоста А выглядит, например, так: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Сеть 1                  А</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en-US" sz="3200" spc="-1" strike="noStrike">
                <a:solidFill>
                  <a:srgbClr val="3366ff"/>
                </a:solidFill>
                <a:latin typeface="Tahoma"/>
              </a:rPr>
              <a:t>Прочие сети         G1</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719280" y="3040920"/>
            <a:ext cx="77752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курса;</a:t>
            </a:r>
            <a:endParaRPr b="0" lang="en-US" sz="3200" spc="-1" strike="noStrike">
              <a:solidFill>
                <a:srgbClr val="000000"/>
              </a:solidFill>
              <a:latin typeface="Arial"/>
            </a:endParaRPr>
          </a:p>
        </p:txBody>
      </p:sp>
      <p:pic>
        <p:nvPicPr>
          <p:cNvPr id="130" name="" descr=""/>
          <p:cNvPicPr/>
          <p:nvPr/>
        </p:nvPicPr>
        <p:blipFill>
          <a:blip r:embed="rId1"/>
          <a:stretch/>
        </p:blipFill>
        <p:spPr>
          <a:xfrm>
            <a:off x="684360" y="665280"/>
            <a:ext cx="7920000" cy="3771720"/>
          </a:xfrm>
          <a:prstGeom prst="rect">
            <a:avLst/>
          </a:prstGeom>
          <a:ln w="0">
            <a:noFill/>
          </a:ln>
        </p:spPr>
      </p:pic>
      <p:sp>
        <p:nvSpPr>
          <p:cNvPr id="131" name=""/>
          <p:cNvSpPr/>
          <p:nvPr/>
        </p:nvSpPr>
        <p:spPr>
          <a:xfrm>
            <a:off x="883080" y="5157720"/>
            <a:ext cx="7614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дключение локальной сети к Интерне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2" name=""/>
          <p:cNvSpPr/>
          <p:nvPr/>
        </p:nvSpPr>
        <p:spPr>
          <a:xfrm>
            <a:off x="934920" y="873000"/>
            <a:ext cx="75247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Формат заголовка IP-дейтаграмм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IP-дейтаграмма состоит из заголовка и данных. </a:t>
            </a:r>
            <a:endParaRPr b="0" lang="en-US" sz="2800" spc="-1" strike="noStrike">
              <a:solidFill>
                <a:srgbClr val="000000"/>
              </a:solidFill>
              <a:latin typeface="Arial"/>
            </a:endParaRPr>
          </a:p>
        </p:txBody>
      </p:sp>
      <p:pic>
        <p:nvPicPr>
          <p:cNvPr id="133" name="" descr="IP header"/>
          <p:cNvPicPr/>
          <p:nvPr/>
        </p:nvPicPr>
        <p:blipFill>
          <a:blip r:embed="rId1"/>
          <a:stretch/>
        </p:blipFill>
        <p:spPr>
          <a:xfrm>
            <a:off x="611280" y="2781360"/>
            <a:ext cx="8064360" cy="3492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4" name=""/>
          <p:cNvSpPr/>
          <p:nvPr/>
        </p:nvSpPr>
        <p:spPr>
          <a:xfrm>
            <a:off x="611280" y="779040"/>
            <a:ext cx="813744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5. Протокол IC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ICMP (Internet Control Message Protocol, Протокол Управляющих Сообщений Интернет) является неотъемлемой частью IP-модуля. Он обеспечивает обратную связь в виде диагностических сообщений, посылаемых отправителю при невозможности доставки его дейтаграммы и в других случаях. ICMP стандартизован в RFC-792, дополнения — в RCF-950,125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
          <p:cNvSpPr/>
          <p:nvPr/>
        </p:nvSpPr>
        <p:spPr>
          <a:xfrm>
            <a:off x="468360" y="549360"/>
            <a:ext cx="8136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осле IP-заголовка следует 32-битное слово с полями “Тип”, “Код” и “Контрольная сумма”. Поля типа и кода определяют содержание ICMP-сообщения. Формат остальной части дейтаграммы зависит от вида сообщения. Контрольная сумма считается так же, как и в IP-заголовке, но в этом случае суммируется содержимое ICMP-сообщения, включая поля “Тип” и “Код”. </a:t>
            </a:r>
            <a:endParaRPr b="0" lang="en-US" sz="2400" spc="-1" strike="noStrike">
              <a:solidFill>
                <a:srgbClr val="000000"/>
              </a:solidFill>
              <a:latin typeface="Arial"/>
            </a:endParaRPr>
          </a:p>
        </p:txBody>
      </p:sp>
      <p:pic>
        <p:nvPicPr>
          <p:cNvPr id="136" name="" descr=""/>
          <p:cNvPicPr/>
          <p:nvPr/>
        </p:nvPicPr>
        <p:blipFill>
          <a:blip r:embed="rId1"/>
          <a:stretch/>
        </p:blipFill>
        <p:spPr>
          <a:xfrm>
            <a:off x="684360" y="3789360"/>
            <a:ext cx="8100720" cy="197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792000" y="512640"/>
            <a:ext cx="766944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ипы 3, 4, 11, 1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38" name="" descr=""/>
          <p:cNvPicPr/>
          <p:nvPr/>
        </p:nvPicPr>
        <p:blipFill>
          <a:blip r:embed="rId1"/>
          <a:stretch/>
        </p:blipFill>
        <p:spPr>
          <a:xfrm>
            <a:off x="755640" y="2060640"/>
            <a:ext cx="7812000" cy="345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
          <p:cNvSpPr/>
          <p:nvPr/>
        </p:nvSpPr>
        <p:spPr>
          <a:xfrm>
            <a:off x="539640" y="549360"/>
            <a:ext cx="81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ahoma"/>
              </a:rPr>
              <a:t>Тип 5</a:t>
            </a:r>
            <a:endParaRPr b="0" lang="en-US" sz="2400" spc="-1" strike="noStrike">
              <a:solidFill>
                <a:srgbClr val="000000"/>
              </a:solidFill>
              <a:latin typeface="Arial"/>
            </a:endParaRPr>
          </a:p>
        </p:txBody>
      </p:sp>
      <p:pic>
        <p:nvPicPr>
          <p:cNvPr id="140" name="" descr=""/>
          <p:cNvPicPr/>
          <p:nvPr/>
        </p:nvPicPr>
        <p:blipFill>
          <a:blip r:embed="rId1"/>
          <a:stretch/>
        </p:blipFill>
        <p:spPr>
          <a:xfrm>
            <a:off x="755640" y="2023920"/>
            <a:ext cx="7848720" cy="352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647640" y="613800"/>
            <a:ext cx="8172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Типы 0,8</a:t>
            </a:r>
            <a:endParaRPr b="0" lang="en-US" sz="2800" spc="-1" strike="noStrike">
              <a:solidFill>
                <a:srgbClr val="000000"/>
              </a:solidFill>
              <a:latin typeface="Arial"/>
            </a:endParaRPr>
          </a:p>
        </p:txBody>
      </p:sp>
      <p:pic>
        <p:nvPicPr>
          <p:cNvPr id="142" name="" descr=""/>
          <p:cNvPicPr/>
          <p:nvPr/>
        </p:nvPicPr>
        <p:blipFill>
          <a:blip r:embed="rId1"/>
          <a:stretch/>
        </p:blipFill>
        <p:spPr>
          <a:xfrm>
            <a:off x="792000" y="1521000"/>
            <a:ext cx="7775640" cy="320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3" name=""/>
          <p:cNvSpPr/>
          <p:nvPr/>
        </p:nvSpPr>
        <p:spPr>
          <a:xfrm>
            <a:off x="468360" y="259560"/>
            <a:ext cx="8029440" cy="58140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Тип 9</a:t>
            </a:r>
            <a:endParaRPr b="0" lang="en-US" sz="3200" spc="-1" strike="noStrike">
              <a:solidFill>
                <a:srgbClr val="000000"/>
              </a:solidFill>
              <a:latin typeface="Arial"/>
            </a:endParaRPr>
          </a:p>
        </p:txBody>
      </p:sp>
      <p:pic>
        <p:nvPicPr>
          <p:cNvPr id="144" name="" descr=""/>
          <p:cNvPicPr/>
          <p:nvPr/>
        </p:nvPicPr>
        <p:blipFill>
          <a:blip r:embed="rId1"/>
          <a:stretch/>
        </p:blipFill>
        <p:spPr>
          <a:xfrm>
            <a:off x="719280" y="1376280"/>
            <a:ext cx="802944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599840"/>
            <a:ext cx="8229600" cy="33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Одна из основных задач, решаемых протоколом IP, - маршрутизация дейтаграмм, т.е. определение пути следования дейтаграммы от одного узла сети к другому на основании адреса получат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539640" y="579600"/>
            <a:ext cx="8101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Протокол AR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ARP (Address Resolution Protocol, Протокол распознавания адреса) предназначен для преобразования IP-адресов в MAC-адреса, часто называемые также физическими адресами.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MAC расшифровывается как Media Access Control, контроль доступа к среде передачи. МАС-адреса идентифицируют устройства, подключенные к физическому каналу, пример MAC-адреса - адрес Ethern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68360" y="404640"/>
            <a:ext cx="8388360" cy="594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539640" y="403920"/>
            <a:ext cx="809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ff"/>
                </a:solidFill>
                <a:latin typeface="Tahoma"/>
              </a:rPr>
              <a:t>IP-сети. </a:t>
            </a:r>
            <a:endParaRPr b="0" lang="en-US" sz="2800" spc="-1" strike="noStrike">
              <a:solidFill>
                <a:srgbClr val="000000"/>
              </a:solidFill>
              <a:latin typeface="Arial"/>
            </a:endParaRPr>
          </a:p>
        </p:txBody>
      </p:sp>
      <p:pic>
        <p:nvPicPr>
          <p:cNvPr id="148" name="" descr=""/>
          <p:cNvPicPr/>
          <p:nvPr/>
        </p:nvPicPr>
        <p:blipFill>
          <a:blip r:embed="rId1"/>
          <a:stretch/>
        </p:blipFill>
        <p:spPr>
          <a:xfrm>
            <a:off x="1224000" y="1197000"/>
            <a:ext cx="6948360" cy="4068720"/>
          </a:xfrm>
          <a:prstGeom prst="rect">
            <a:avLst/>
          </a:prstGeom>
          <a:ln w="0">
            <a:noFill/>
          </a:ln>
        </p:spPr>
      </p:pic>
      <p:sp>
        <p:nvSpPr>
          <p:cNvPr id="149" name=""/>
          <p:cNvSpPr/>
          <p:nvPr/>
        </p:nvSpPr>
        <p:spPr>
          <a:xfrm>
            <a:off x="3738960" y="5481720"/>
            <a:ext cx="1988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Proxy 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51"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задачи протокола IP? TCP? В чем их отличие друг от друга?</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I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овы недостатки протокола TCP? Подходы к их решению.</a:t>
            </a:r>
            <a:endParaRPr b="0" lang="en-US" sz="3200" spc="-1" strike="noStrike">
              <a:solidFill>
                <a:srgbClr val="000000"/>
              </a:solidFill>
              <a:latin typeface="Arial"/>
            </a:endParaRPr>
          </a:p>
          <a:p>
            <a:pPr marL="609480" indent="-609480">
              <a:lnSpc>
                <a:spcPct val="100000"/>
              </a:lnSpc>
              <a:spcBef>
                <a:spcPts val="799"/>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Как приложение взаимодействует со стеком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53"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fontScale="96000"/>
          </a:bodyPr>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80000"/>
              </a:lnSpc>
              <a:spcBef>
                <a:spcPts val="700"/>
              </a:spcBef>
              <a:buClr>
                <a:srgbClr val="00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ff"/>
                </a:solidFill>
                <a:latin typeface="Tahoma"/>
              </a:rPr>
              <a:t>Doyle J. "Routing TCP/IP. Volume I" – Cisco Press,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10920" y="728640"/>
            <a:ext cx="7924680" cy="52214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Общий сценарий работы модуля IP на каком-либо узле сети, принимающего дейтаграмму из сети, таков: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ahoma"/>
              </a:rPr>
              <a:t>-</a:t>
            </a:r>
            <a:r>
              <a:rPr b="0" lang="ru-RU" sz="3200" spc="-1" strike="noStrike">
                <a:solidFill>
                  <a:srgbClr val="0066ff"/>
                </a:solidFill>
                <a:latin typeface="Tahoma"/>
              </a:rPr>
              <a:t> </a:t>
            </a:r>
            <a:r>
              <a:rPr b="0" lang="ru-RU" sz="3200" spc="-1" strike="noStrike">
                <a:solidFill>
                  <a:srgbClr val="3366ff"/>
                </a:solidFill>
                <a:latin typeface="Tahoma"/>
              </a:rPr>
              <a:t>одного из интерфейсов уровня доступа к среде передачи (например, с Ethernet-интерфейса) в модуль IP поступает дейтаграмма;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 </a:t>
            </a:r>
            <a:r>
              <a:rPr b="0" lang="ru-RU" sz="3200" spc="-1" strike="noStrike">
                <a:solidFill>
                  <a:srgbClr val="3366ff"/>
                </a:solidFill>
                <a:latin typeface="Tahoma"/>
              </a:rPr>
              <a:t>модуль IP анализирует заголовок дейтаграмм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8BD0-4BE6-4251-8608-7B3E869E8F84}" type="slidenum">
              <a:rPr b="0" lang="en-US" sz="1800" spc="-1" strike="noStrike">
                <a:solidFill>
                  <a:srgbClr val="ffffff"/>
                </a:solidFill>
                <a:latin typeface="Arial"/>
              </a:rPr>
              <a:t>5</a:t>
            </a:fld>
            <a:endParaRPr b="0" lang="en-US" sz="1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647640" y="61164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если пунктом назначения дейтаграммы является данный компьютер: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если дейтаграмма является фрагментом большей дейтаграммы, ожидаются остальные фрагменты, после чего из них собирается исходная большая дейтаграм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a:t>
            </a:r>
            <a:r>
              <a:rPr b="0" lang="ru-RU" sz="2800" spc="-1" strike="noStrike">
                <a:solidFill>
                  <a:srgbClr val="3366ff"/>
                </a:solidFill>
                <a:latin typeface="Tahoma"/>
              </a:rPr>
              <a:t>из дейтаграммы извлекаются данные и направляются на обработку одному из протоколов вышележащего уровня (какому именно - указывается в заголовке дейтаграмм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E9533-74E0-47DD-B42A-F6ECF4792A7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647640" y="717120"/>
            <a:ext cx="79567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Если дейтаграмма не направлена ни на один из IP-адресов данного узла, то дальнейшие действия зависят от того, разрешена или запрещена ретрансляция (forwarding) “чужих” дейтаграм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если ретрансляция разрешена, то определяются следующий узел сети, на который должна быть переправлена дейтаграмма для доставки ее по назначению, и интерфейс нижнего уровня, после чего дейтаграмма передается на нижний уровень этому интерфейсу для отправк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 при необходимости может быть произведена фрагментация дейтаграммы;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если же дейтаграмма ошибочна или по каким-либо причинам не может быть доставлена, она уничтожается; при этом, как правило, отправителю дейтаграммы отсылается ICMP-сообщение об ошибк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6"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0B6C-E4FB-408C-B309-5030E5D226E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 name=""/>
          <p:cNvSpPr/>
          <p:nvPr/>
        </p:nvSpPr>
        <p:spPr>
          <a:xfrm>
            <a:off x="431640" y="1626840"/>
            <a:ext cx="813600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При получении данных от вышестоящего уровня для отправки их по сети IP-модуль формирует дейтаграмму с этими данными, в заголовок которой заносятся адреса отправителя и получателя и другая информация; после чего выполняются следующие шаг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Maxim</cp:lastModifiedBy>
  <dcterms:modified xsi:type="dcterms:W3CDTF">2009-01-12T10:30:02Z</dcterms:modified>
  <cp:revision>140</cp:revision>
  <dc:subject/>
  <dc:title>Lecture Template </dc:title>
</cp:coreProperties>
</file>